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E971-FB44-4F09-BB5D-3C66D9403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FF29-4FB5-4249-939D-C491E28A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C386-9AD9-4806-925B-ADB35DAD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667F-BEC9-42B7-B849-A8A4B409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1B39-2C1C-410B-92DE-2F4D95D6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2556-758C-4EBE-ADCF-4AB6F9EC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676E-25F4-4858-8606-F144EA95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9C3F-6D8F-4045-AC00-1D0671CC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6874-32D0-47E6-9057-450411FF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F1D7-28FD-4C21-BC4B-BDE64633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33AF-ADD5-4A81-817E-66791BB0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452A-68AF-4079-84B6-6D275D70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916D-129F-4E20-B505-ABF868906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86400"/>
            <a:ext cx="76201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505320"/>
            <a:ext cx="91440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0880"/>
            <a:ext cx="91440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76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S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7339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S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791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S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09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S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609588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bst i.e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P I P(b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62920" y="5638680"/>
            <a:ext cx="17524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‘s Fremdwunsch-Sel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P I I(a,P(b)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4267080"/>
            <a:ext cx="17528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‘s Eigenkonzept-Sel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P I G(b,P(b)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33720" y="4876920"/>
            <a:ext cx="17524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‘s Eigenwunsch-Sel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P I I(b,P(b)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5334120"/>
            <a:ext cx="17524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‘s Fremdkonzept-Sel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P I G(a,P(b)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50" idx="2"/>
            <a:endCxn id="48" idx="0"/>
          </p:cNvCxnSpPr>
          <p:nvPr/>
        </p:nvCxnSpPr>
        <p:spPr>
          <a:xfrm>
            <a:off x="1028520" y="4724280"/>
            <a:ext cx="30528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"/>
          <p:cNvCxnSpPr>
            <a:stCxn id="51" idx="2"/>
            <a:endCxn id="48" idx="0"/>
          </p:cNvCxnSpPr>
          <p:nvPr/>
        </p:nvCxnSpPr>
        <p:spPr>
          <a:xfrm flipH="1">
            <a:off x="1333440" y="5334120"/>
            <a:ext cx="1676880" cy="762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>
            <a:stCxn id="52" idx="1"/>
            <a:endCxn id="48" idx="0"/>
          </p:cNvCxnSpPr>
          <p:nvPr/>
        </p:nvCxnSpPr>
        <p:spPr>
          <a:xfrm flipH="1">
            <a:off x="1333440" y="5562720"/>
            <a:ext cx="3010320" cy="533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9" idx="1"/>
            <a:endCxn id="48" idx="0"/>
          </p:cNvCxnSpPr>
          <p:nvPr/>
        </p:nvCxnSpPr>
        <p:spPr>
          <a:xfrm flipH="1">
            <a:off x="1333440" y="5867280"/>
            <a:ext cx="582984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" name=""/>
          <p:cNvSpPr/>
          <p:nvPr/>
        </p:nvSpPr>
        <p:spPr>
          <a:xfrm>
            <a:off x="685800" y="838080"/>
            <a:ext cx="1828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‘s Fremdwunsch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enkonzept-Sel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P I I(a,G(b,P(b))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523880"/>
            <a:ext cx="1828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‘s Fremdkonzep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enkonzept-Sel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P I G(a,G(b,P(b))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2209680"/>
            <a:ext cx="1828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‘s Eigenwunsch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enkonzept-Sel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P I I(b,G(b,P(b))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895480"/>
            <a:ext cx="1828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‘s Eigenkonzep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enkonzept-Sel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P I G(b,G(b,P(b))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1066680"/>
            <a:ext cx="1828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‘s Fremdwunsch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enwunsch-Sel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P I I(a,I(b,P(b))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1828800"/>
            <a:ext cx="1828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‘s Fremdkonzep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enwunsch-Sel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P I G(a,I(b,P(b))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2514600"/>
            <a:ext cx="1828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‘s Eigenwunsch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enwunsch-Sel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P I I(b,I(b,P(b))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3276720"/>
            <a:ext cx="1828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‘s Eigenkonzep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enwunsch-Sel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P I G(b,I(b,P(b))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1371600"/>
            <a:ext cx="1828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‘s Fremdwunsch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mdkonzept-Sel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P I I(a,G(b,P(b))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2133720"/>
            <a:ext cx="1828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‘s Fremdkonzep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mdkonzept-Sel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P I G(a,G(a,P(b))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95680" y="2895480"/>
            <a:ext cx="1828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‘s Eigenwunsch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mdkonzept-Sel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P I I(b,G(a,P(b))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67080" y="3657600"/>
            <a:ext cx="1828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‘s Eigenkonzep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mdkonzept-Sel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P I G(b,G(a,P(b))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62920" y="1600200"/>
            <a:ext cx="1828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‘s Fremdwunsch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mdwunsch-Sel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P I I(a,I(a,P(b))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2286000"/>
            <a:ext cx="1828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‘s Fremdkonzep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mdwunsch-Sel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P I G(a,I(a,P(b))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2971800"/>
            <a:ext cx="1828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‘s Eigenwunsch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mdwunsch-Sel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P I I(b,I(a,P(b))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3809880"/>
            <a:ext cx="1828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‘s Eigenkonzep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mdwunsch-Sel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P I G(b,I(a,P(b))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8915400" y="2133720"/>
            <a:ext cx="7632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763120" y="2819520"/>
            <a:ext cx="15228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610480" y="3505320"/>
            <a:ext cx="30492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1880" y="434340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095520" y="1905120"/>
            <a:ext cx="83844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095880" y="2666880"/>
            <a:ext cx="53352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095520" y="3429000"/>
            <a:ext cx="2286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4191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886200" y="1600200"/>
            <a:ext cx="99072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885840" y="2362320"/>
            <a:ext cx="68580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886200" y="3048120"/>
            <a:ext cx="3808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886200" y="3809880"/>
            <a:ext cx="7632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74320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904760" y="2057400"/>
            <a:ext cx="15228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904760" y="1371600"/>
            <a:ext cx="60948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34290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14:35:35Z</dcterms:created>
  <dc:creator>su</dc:creator>
  <dc:description/>
  <dc:language>en-US</dc:language>
  <cp:lastModifiedBy>su</cp:lastModifiedBy>
  <dcterms:modified xsi:type="dcterms:W3CDTF">2003-05-28T13:59:28Z</dcterms:modified>
  <cp:revision>2</cp:revision>
  <dc:subject/>
  <dc:title>Kein Folientitel</dc:title>
</cp:coreProperties>
</file>